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lzipup01.wav" ContentType="audio/x-wav"/>
  <Override PartName="/ppt/media/meepmeep.wav" ContentType="audio/x-wav"/>
  <Override PartName="/ppt/media/fastcar.wav" ContentType="audio/x-wav"/>
  <Override PartName="/ppt/media/highchime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805-6982-4E5E-8B5E-3E0B7153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BFD-C7D3-4D98-860C-60ECCFA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B52-50C0-492E-BDC8-AD45E696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713-A208-418B-89EB-ACD772F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336-0DA1-4208-AFED-D6D45E7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737-2623-4609-8E9C-CDB90C04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ED8-9C94-43A6-94E1-B7ED27A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E2C-47A1-446E-8E3B-90297495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AA7-D837-47E7-B1F2-9F192B0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8AD-4FD8-4F7F-86C2-1824351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1AA-AD52-42DE-9749-E23EA7A6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4B3-7796-4BDC-B407-28363AB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13D-4590-40EF-8322-A5E07F420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l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lzipup01.wav"/><Relationship Id="rId13" Type="http://schemas.openxmlformats.org/officeDocument/2006/relationships/audio" Target="../media/meepmeep.wav"/><Relationship Id="rId14" Type="http://schemas.openxmlformats.org/officeDocument/2006/relationships/audio" Target="../media/zapbig0g.wav"/><Relationship Id="rId15" Type="http://schemas.openxmlformats.org/officeDocument/2006/relationships/audio" Target="../media/lzipup01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l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lzipup01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audio" Target="../media/lzipup01.wav"/><Relationship Id="rId19" Type="http://schemas.openxmlformats.org/officeDocument/2006/relationships/audio" Target="../media/zapbig0g.wav"/><Relationship Id="rId20" Type="http://schemas.openxmlformats.org/officeDocument/2006/relationships/audio" Target="../media/jetflyby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meepmeep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2880" y="1397160"/>
          <a:ext cx="8506080" cy="3240000"/>
        </p:xfrm>
        <a:graphic>
          <a:graphicData uri="http://schemas.openxmlformats.org/drawingml/2006/table">
            <a:tbl>
              <a:tblPr/>
              <a:tblGrid>
                <a:gridCol w="2394000"/>
                <a:gridCol w="6112080"/>
              </a:tblGrid>
              <a:tr h="107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 of the data divided by the number of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number when data is in or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frequen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Find the mean, median, and mode of the foll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82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45, 50, 50, 40, 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9916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276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580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120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1081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360" y="29718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92280" y="2963880"/>
                <a:ext cx="1066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65520" y="2963880"/>
                <a:ext cx="85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62280" y="2979720"/>
                <a:ext cx="1741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14200" y="38862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di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35280" y="38638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246480" y="2027160"/>
            <a:ext cx="884160" cy="7160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4200" y="48006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635280" y="47782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389480" y="2759040"/>
            <a:ext cx="1477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animMotion origin="layout" path="M 0 0 L -0.3533 0.13101 E"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77778E-006 -4.44444E-006 L 0.01997 0.13102 E">
                                      <p:cBhvr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animMotion origin="layout" path="M 5.55556E-007 -4.44444E-006 L -0.25504 0.12871 E">
                                      <p:cBhvr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5.55556E-007 -4.44444E-006 L 0.13003 0.13102 E">
                                      <p:cBhvr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3.88889E-006 -4.44444E-006 L 0.12829 0.13334 E">
                                      <p:cBhvr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72880" y="1397160"/>
          <a:ext cx="8506080" cy="3220920"/>
        </p:xfrm>
        <a:graphic>
          <a:graphicData uri="http://schemas.openxmlformats.org/drawingml/2006/table">
            <a:tbl>
              <a:tblPr/>
              <a:tblGrid>
                <a:gridCol w="2394000"/>
                <a:gridCol w="6112080"/>
              </a:tblGrid>
              <a:tr h="1079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 of the data divided by the number of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 number when data is in or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 frequen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72880" y="4618080"/>
            <a:ext cx="8506080" cy="1019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4618080"/>
            <a:ext cx="0" cy="10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475452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51040" y="4573440"/>
            <a:ext cx="61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that is much higher or lower than the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5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Find an outlier and tell how it affects the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1146240"/>
            <a:ext cx="569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9, 10, 12, 13, 8, 9, 31,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34340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4720" y="4335480"/>
                <a:ext cx="960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95760" y="4335480"/>
                <a:ext cx="85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27440" y="4351320"/>
                <a:ext cx="1670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44440" y="52578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dia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718080" y="5265720"/>
                <a:ext cx="1385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44440" y="6172200"/>
            <a:ext cx="18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01880" y="614988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86080" y="193500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8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364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468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62240" y="193356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9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11600" y="19335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0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65520" y="193356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2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33840" y="1935000"/>
            <a:ext cx="98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13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72280" y="1935000"/>
            <a:ext cx="96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3687840"/>
            <a:ext cx="9144000" cy="3475080"/>
            <a:chOff x="0" y="3687840"/>
            <a:chExt cx="9144000" cy="3475080"/>
          </a:xfrm>
        </p:grpSpPr>
        <p:sp>
          <p:nvSpPr>
            <p:cNvPr id="87" name=""/>
            <p:cNvSpPr/>
            <p:nvPr/>
          </p:nvSpPr>
          <p:spPr>
            <a:xfrm>
              <a:off x="2776680" y="368784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th Outli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7400" y="3732480"/>
              <a:ext cx="330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ithout Outli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08800" y="3687840"/>
              <a:ext cx="0" cy="347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29732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86280" y="4411800"/>
                <a:ext cx="747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524640" y="4411800"/>
                <a:ext cx="887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416720" y="4427640"/>
                <a:ext cx="1171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418520" y="531180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434360" y="6226200"/>
                <a:ext cx="925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246480" y="2606760"/>
            <a:ext cx="1187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895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outlier 31 raised the mean 2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39920" y="1935000"/>
            <a:ext cx="625680" cy="7160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0 0 C 0.01597 0.03172 0.03195 0.06366 0.03004 0.08218 C 0.02813 0.1007 0.00556 0.10325 -0.01163 0.11112 C -0.02882 0.11899 -0.03298 0.12848 -0.07326 0.12894 C -0.11354 0.1294 -0.1941 0.11482 -0.2533 0.11343 C -0.3125 0.11204 -0.39184 0.11482 -0.4283 0.11991 C -0.46475 0.125 -0.46111 0.10325 -0.4717 0.14445 C -0.48229 0.18565 -0.49219 0.3007 -0.49166 0.36667 C -0.49114 0.43264 -0.51094 0.51644 -0.46823 0.54005 C -0.42552 0.56366 -0.29844 0.53519 -0.23489 0.5088 C -0.17135 0.48241 -0.12361 0.39653 -0.08663 0.38218 C -0.04965 0.36783 -0.02864 0.38936 -0.01337 0.42223 C 0.00191 0.4551 -0.02153 0.56667 0.00504 0.5801 C 0.0316 0.59352 0.11302 0.53565 0.1467 0.50232 C 0.18038 0.46899 0.18368 0.43264 0.20677 0.3801 C 0.22986 0.32755 0.24514 0.23149 0.28507 0.18658 C 0.325 0.14167 0.38577 0.12639 0.4467 0.11112 E">
                                      <p:cBhvr>
                                        <p:cTn id="26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5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Which measures of central tendency best describes each situation?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6956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. average hours of sleep per n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36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because you can add them up and div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30672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most popular color of shi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08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 because they are not numbers that can be ad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498636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. times school buses arrive at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727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, because with times it is best to find the midd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3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34, 3 – 3 #1-4, 6-20 ev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2T13:31:37Z</dcterms:modified>
  <cp:revision>53</cp:revision>
  <dc:subject/>
  <dc:title>Slide 1</dc:title>
</cp:coreProperties>
</file>